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44244C-2178-4E9F-8653-406402006B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79316-5E43-49DB-ADA4-19C5C7A50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19E15C-0B28-44AF-8EBC-3DD6E03930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D13BD-4120-4E1D-9141-03B0AEF3E7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4D1BC-7BD7-47D9-8966-1783642D3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2E84E-87A8-41C9-B152-164BD4F93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4A8BC-8926-4779-8F0A-179DB6800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284CF-0533-41CE-9B14-A9CF790A2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DB1C3-8DC9-4279-B2CC-D79FA8729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67EDA-9DEA-4CD5-8F1C-752FFD6F0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DC490-8BDD-47B5-86C5-71638BCFF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FDB36-1164-4650-8AA9-B679A915C2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CBE8D-7731-42CC-813C-65CA20BF82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orage, Communication &amp; Disposal of information</a:t>
            </a:r>
            <a:endParaRPr b="0" lang="en-US" sz="40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ea typeface="Times New Roman"/>
              </a:rPr>
              <a:t>Privacy Act 1988 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ea typeface="Times New Roman"/>
              </a:rPr>
              <a:t>The Privacy Amendment (Private Sector) Act 200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ea typeface="Times New Roman"/>
              </a:rPr>
              <a:t>The information Privacy Act 2000 (Vi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ea typeface="Times New Roman"/>
              </a:rPr>
              <a:t>The Health Amendment Record Act 2001 (Vic)</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ea typeface="Times New Roman"/>
              </a:rPr>
              <a:t>Copyright Act 1968</a:t>
            </a:r>
            <a:r>
              <a:rPr b="0" lang="en-AU"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rivacy Amendment (Private Sector Act) 2000 (3)</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529920" indent="-529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ata &amp; dissemination:</a:t>
            </a:r>
            <a:endParaRPr b="0" lang="en-US" sz="3200" spc="-1" strike="noStrike">
              <a:solidFill>
                <a:srgbClr val="000000"/>
              </a:solidFill>
              <a:latin typeface="Times New Roman"/>
            </a:endParaRPr>
          </a:p>
          <a:p>
            <a:pPr lvl="1" marL="861840" indent="-4640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 should only be used for the purpose it was collected for</a:t>
            </a:r>
            <a:endParaRPr b="0" lang="en-US" sz="2400" spc="-1" strike="noStrike">
              <a:solidFill>
                <a:srgbClr val="000000"/>
              </a:solidFill>
              <a:latin typeface="Times New Roman"/>
            </a:endParaRPr>
          </a:p>
          <a:p>
            <a:pPr lvl="1" marL="861840" indent="-4640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though it may be used for secondary purposes if it is reasonable to do so</a:t>
            </a:r>
            <a:endParaRPr b="0" lang="en-US" sz="2400" spc="-1" strike="noStrike">
              <a:solidFill>
                <a:srgbClr val="000000"/>
              </a:solidFill>
              <a:latin typeface="Times New Roman"/>
            </a:endParaRPr>
          </a:p>
          <a:p>
            <a:pPr lvl="1" marL="861840" indent="-4640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must be noted that the exception to this is direct marketing. It is acceptable to use data for direct marketing purposes, however, when this is done, individuals must be given the option of requesting not to receive any further direct marketing</a:t>
            </a:r>
            <a:endParaRPr b="0" lang="en-US" sz="2400" spc="-1" strike="noStrike">
              <a:solidFill>
                <a:srgbClr val="000000"/>
              </a:solidFill>
              <a:latin typeface="Times New Roman"/>
            </a:endParaRPr>
          </a:p>
          <a:p>
            <a:pPr lvl="1" marL="861840" indent="-4640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formation should not be disseminated to other countries where similar privacy provisions don’t exi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wo Acts Compared</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oth essentially the sam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ovt organisations operate under stricter controls regarding what can be done with the info. Collected – used only for purpose collect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ivate org. may use the info. That is collected for secondary purposes provided it meets the provisions contained with the Ac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oth the gov. &amp; Private org. have obligations to ensure data is stored safely, is accurate and comple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both must also ha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The Information Privacy Act (Vic)</a:t>
            </a:r>
            <a:endParaRPr b="0" lang="en-US" sz="40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Act provides the same protection as the Privacy Act 1988</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Privacy Act 1988 deals with Comm. Govt. Agencies &amp; Private or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Information Privacy Act (Vic) deals with the Vict. Govt. departments, Agencies 7 their sub contractors as well as Vict. Local govt. bod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The Information Privacy Act (Vic) (2)</a:t>
            </a:r>
            <a:endParaRPr b="0" lang="en-US" sz="40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the organisation in question is a Vict. Govt. Agency, local council or a sub contractor of them, then they will be covered by the Ac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other organisations are covered by the Comm. Ac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function of the Act is to establish the office of the Victorian Privacy Commissioner to oversee the compliance with the ac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nalties: compliance notice issued to organisations; maximum penalties, $300,000 for organisations &amp; $60,000 for non-corporate off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The Health Records Act 2001 (Vic)</a:t>
            </a:r>
            <a:endParaRPr b="0" lang="en-US" sz="40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is act covers both the govt. and private sectors &amp; details the rights of individuals &amp; the responsibilities of organisations that hold inform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t allows a greater level of exemptions and exclusions than other privacy legislation; (this is b/c of the mandatory reporting of certain diseas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The Health Records Act 2001 (Vic) (2)</a:t>
            </a:r>
            <a:endParaRPr b="0" lang="en-US" sz="40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t also covers in greater detail the manner in which information can be used, especially in researc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pyright Act 1968; Copyright Amendment (Digital Agenda) Act 2000</a:t>
            </a:r>
            <a:endParaRPr b="0" lang="en-US" sz="40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at is copyrigh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The legal protection of an idea against copying or use without permission.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In Australia copyright protection is automatic, it doesn’t need to be registered.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It has become important with the advent of the internet and cable TV where many items are easily copied.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Intellectual property, “product of human thought”, texts, videos, music, broadcasts &amp; computer gam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Does not cover ideas, concepts, styles, techniques, sloga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pyright infringed if materials is used without permission</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pyright Act 1968; Copyright Amendment (Digital Agenda) Act 2000, contd</a:t>
            </a:r>
            <a:endParaRPr b="0" lang="en-US" sz="40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o Owns Copyrigh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General rule is that the creator of the item is 1st own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The right can be varied by agreement but there are some significant exclusion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When the work is made by an employee in the course of employment and as a part of the employee’s usual duties then the 1st owner of copyright is the emplo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includes programs/websites/docs. etc. written by employe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oesn’t include if written in freelance or contract arrangemen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pyright Act Contd</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ceptions where permission from copyright owner is not requir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king a backup copy of computer progra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exemption only applies to computer programs – not to music CD’s, computer games or CD-ROM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overnment use “for the services of gover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nalties: Fines up to $60500 and/or 5 yrs jail</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ganisational Goals &amp; I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ssion statement explains what the company is trying to achieve whereas Organisational goal explains how the organisation will achieve its mis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S has goals with aims to assist company to achieve organisational goa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orage, Communication &amp; Disposal of information</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ea typeface="Times New Roman"/>
              </a:rPr>
              <a:t>Legal obligations of an organization when</a:t>
            </a:r>
            <a:r>
              <a:rPr b="1"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ea typeface="Times New Roman"/>
              </a:rPr>
              <a:t> </a:t>
            </a:r>
            <a:r>
              <a:rPr b="1" lang="en-AU" sz="3200" spc="-1" strike="noStrike">
                <a:solidFill>
                  <a:srgbClr val="000000"/>
                </a:solidFill>
                <a:latin typeface="Times New Roman"/>
                <a:ea typeface="Times New Roman"/>
              </a:rPr>
              <a:t>storing,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ea typeface="Times New Roman"/>
              </a:rPr>
              <a:t>communicating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ea typeface="Times New Roman"/>
              </a:rPr>
              <a:t>and disposing of data and information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ea typeface="Times New Roman"/>
              </a:rPr>
              <a:t>Information Privacy?</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rights of individuals or organisations to disallow or restrict the use of information about the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has become more important due to the large amounts of personal data now being stored which has increased the potential for unauthorised u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Legislation: The Privacy Act 1988 (1)</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Government sector is primary focu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Key Principles: 11 key principles which can be summaris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Data collection: information is collected in a manner that is lawful and those providing the information are informed as to the intended use of the informatio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Privacy Act 1988 (2)</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Times New Roman"/>
                <a:ea typeface="Times New Roman"/>
              </a:rPr>
              <a:t>Data Processing, storage &amp; maintenanc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Agencies have an obligation to ensure that information is accurate, up to date and comple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Individuals can access their own records and request altera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Information that is stored is secure and has access restricted to those who have legitimate purpos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And is only kept for a time frame that is reasonable in the context of the purpose the data was collected fo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Privacy Act 1988 (3)</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Times New Roman"/>
                <a:ea typeface="Times New Roman"/>
              </a:rPr>
              <a:t>Data U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 can only be used for the purpose it was collect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y other use must be accompanied by the consent of the individual it was collected fro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nless there is threat to life or health or in the enforcement of the la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rivacy Amendment (Private Sector Act) 2000</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597240" indent="-59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ata Collection:</a:t>
            </a:r>
            <a:endParaRPr b="0" lang="en-US" sz="3200" spc="-1" strike="noStrike">
              <a:solidFill>
                <a:srgbClr val="000000"/>
              </a:solidFill>
              <a:latin typeface="Times New Roman"/>
            </a:endParaRPr>
          </a:p>
          <a:p>
            <a:pPr lvl="1" marL="970560" indent="-5227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 collection in a lawful manner</a:t>
            </a:r>
            <a:endParaRPr b="0" lang="en-US" sz="2400" spc="-1" strike="noStrike">
              <a:solidFill>
                <a:srgbClr val="000000"/>
              </a:solidFill>
              <a:latin typeface="Times New Roman"/>
            </a:endParaRPr>
          </a:p>
          <a:p>
            <a:pPr lvl="1" marL="970560" indent="-5227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d individuals supplying the data need to be made aware of the purpose of the collection</a:t>
            </a:r>
            <a:endParaRPr b="0" lang="en-US" sz="2400" spc="-1" strike="noStrike">
              <a:solidFill>
                <a:srgbClr val="000000"/>
              </a:solidFill>
              <a:latin typeface="Times New Roman"/>
            </a:endParaRPr>
          </a:p>
          <a:p>
            <a:pPr lvl="1" marL="970560" indent="-5227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d their rights in relation to the organisation use of the data. Data </a:t>
            </a:r>
            <a:r>
              <a:rPr b="0" lang="en-AU" sz="2400" spc="-1" strike="noStrike">
                <a:solidFill>
                  <a:srgbClr val="000000"/>
                </a:solidFill>
                <a:latin typeface="Times New Roman"/>
                <a:ea typeface="Times New Roman"/>
              </a:rPr>
              <a:t>collection methods must also include a statement detailing the organisation’s privacy policy and contact details</a:t>
            </a:r>
            <a:endParaRPr b="0" lang="en-US" sz="2400" spc="-1" strike="noStrike">
              <a:solidFill>
                <a:srgbClr val="000000"/>
              </a:solidFill>
              <a:latin typeface="Times New Roman"/>
            </a:endParaRPr>
          </a:p>
          <a:p>
            <a:pPr lvl="1" marL="970560" indent="-5227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And the options to request that the data collected not be used for direct marketing purposes</a:t>
            </a:r>
            <a:endParaRPr b="0" lang="en-US" sz="2400" spc="-1" strike="noStrike">
              <a:solidFill>
                <a:srgbClr val="000000"/>
              </a:solidFill>
              <a:latin typeface="Times New Roman"/>
            </a:endParaRPr>
          </a:p>
          <a:p>
            <a:pPr marL="597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rivacy Amendment (Private Sector Act) 2000 (2)</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 processing, storage and maintenance:</a:t>
            </a:r>
            <a:endParaRPr b="0" lang="en-US" sz="24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reasonable steps to be taken to ensure that the data that is collected is accurate, complete and correct</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ata should be stored in a secure environment</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ith access restricted to those that have authorised purpose</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ganisations have a responsibility to ensure that procedures are in place to allow individuals to view data stored about them</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to have corrections made if errors are detected</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ganisations also need to ensure that these procedures are readily availab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10:57:59Z</dcterms:created>
  <dc:creator>KB</dc:creator>
  <dc:description/>
  <dc:language>en-US</dc:language>
  <cp:lastModifiedBy>Kelvin Baird</cp:lastModifiedBy>
  <dcterms:modified xsi:type="dcterms:W3CDTF">2007-07-09T04:01:44Z</dcterms:modified>
  <cp:revision>10</cp:revision>
  <dc:subject/>
  <dc:title>Information Management Strategies </dc:title>
</cp:coreProperties>
</file>